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36B-FF16-48A9-81F2-2B1B6F7DD7A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Rhinitis : inflammation of the nasal mucosa characterized by two or more of the following symp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Nasal con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Anterior/posterior rhinorrho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Snee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Nasal itch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rgy rhinitis - </a:t>
            </a: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g-E mediated inflammation  of the nasal mucosa after exposure to the aller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3FE1-349A-4237-A5F9-36AD6F8DB0E5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divided in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ittent (IAR) .v. persistent (P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ity classifi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d .v. moderate/sev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CF0A-86D6-48E8-ABC7-81E99F437306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BE4-CC90-4C30-BA22-C8CDE3D6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B55-6EF9-496C-B49D-D7154B87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912-EE69-4D49-8695-D0514124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955-1CFE-4704-9E09-6CFE72D9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136F-18BE-4576-AE9C-A78018B0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670A-37AC-487B-9181-73AE7BF9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1F30-53D9-4F2A-9028-66EA770D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7265-FF86-40F3-8BF9-8EE42605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709D-C5FA-46E3-A97F-5D9D0F74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CF05-107B-4C87-B0C4-159E0F54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D94F-4223-4B4D-85B8-4FD1AA75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7B0-7401-4640-A9DF-08859CF0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199F-B453-40CD-9C52-D44A5A05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29AF-7751-4283-B9EE-D4CB0FA4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6166-8A80-4F26-AF35-1AB38B5B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11F3-3D55-46BB-AF8E-E1B9238B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FADE-EC97-402C-90FE-C47D45E6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B909-510F-4C5E-B2E7-B628E61E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9E292-E332-4A9D-AEB3-80BE1311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FA9F-7171-4923-B9E2-059BE721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C33A-8E90-424B-A081-E4C64EAC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79C8-CE75-4A5E-B66F-9E08ECF7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CE5-B7AD-4EA5-AB2E-C550F479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68BA-8640-4215-8BB2-A3456E17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083B-959C-4AA5-990B-2286DDD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75A70-9736-4F7A-A79E-08D68C88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06F7-ED84-4190-A8C8-5DEDD6AC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C505-EAE1-46AE-80D5-FEACD329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DB7B-632E-4352-AFD1-4573A11C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A1B5-9771-4FD9-A5FD-AB815FA9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28228-C184-4CDD-AD69-DABA45C1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F8154-4041-4672-9057-6D8B3FE4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DA3AA-3B01-4238-86B1-76FF1950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FE6-2C32-461C-902E-9A604FB3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5D35F-37EB-42F7-9195-EEBAD8B5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FC7E-EBED-4D91-8E2F-32F088D9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7E19-EEFA-4D95-879A-8C4014A4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3FAA-40BD-4072-AFD0-4BF022D1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C96FB-23E8-49CC-83A6-EE7B2AE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C5F8-2F5C-4BCE-9256-A43556BE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1D26-F5A8-4F2E-B527-0E3011C5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5AEC-FACE-4771-867B-F6319643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5548-FF0B-4E31-AB60-635DA2D8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D3936-FA93-4D7F-ACEE-2622487B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8DC-0949-4BEA-A2FA-547CAE99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970E7-21EA-48F8-96AC-36BFCED8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0CDBA-AD86-4485-AE96-9C6D411C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EDC1B-4D00-4866-8857-2AD72563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43F7B-76D5-440D-B448-EFECBAD3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639E1-9D61-4430-AF96-F7FB5806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C2F1-D398-4BCB-B2E9-BA0B2230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A21DC-F33A-412B-9DA6-D8339F86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9CE1E-73DA-4E89-B565-7D1BF582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C4AE-E1C1-4D68-A15D-55CBB90A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ED5EC-BD41-49F5-BF91-0721D6B2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D18-8396-4E42-81F6-F74A8A42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B45B-4D68-4463-8320-37838766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E3E68-097A-4FF7-BA7D-4FFF98C3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3404C-5FE6-4DC4-BD46-ED3A6362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8A57A-DCDC-4A1B-8825-10586A62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CA79A-CE27-4CC0-9737-CE3DE7AF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A864C-19C2-4567-9399-F1A17083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61DCA-9EEA-42F7-AEF0-51073119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4DF82-9101-4E05-BE1F-28049E34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5F124-D8D9-4C11-B4CC-069DA1F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7C0A0-18FA-4FED-8C58-60EB0554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37A-1C3A-4C55-87A9-08DDE597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F622C-C1D3-40EC-9217-C10F4B39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CCD7C-4F73-422A-9869-877AB2F9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7D619-1B6F-4898-B054-30E2934E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4D373-5BC7-4222-9EE9-A409BE49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CAD50-E28F-4183-AF09-B4655EBE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2056A-7E18-4A76-A0BE-941714BA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E5097-FBB2-48FC-8B7C-415CDE30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5B1CA-3733-4E9A-9E1A-0C67F283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58FE4-5FFF-4FC8-BBC2-5DE64798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DCE50-4638-4FD7-BD37-8B1BA836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DBF-3219-43A9-93ED-B994A76A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42245-229E-4215-891D-5A7D3D07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42C0B-ECA7-417E-A954-13450FF1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16BF-B384-4A7D-ABA0-E66F57F5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A3F8A-328E-4947-A074-92FA030F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A74E3-CFA6-4711-8E55-EDC36F1D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D6D-2FBD-4E46-94C3-DDEFBAE8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A22E-8DA6-4438-ACAE-92D5C9B44672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C10-E677-4A28-8200-2B9A2B4EF1A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C2F1-1BB9-4A91-B855-0FA78BB7DC17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C821-037A-415A-AC4A-7C8D84AB112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E49A-B88D-46F8-BB11-1D662AC3A5B2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A5D9-AB17-4137-B519-66E3BB4C58A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92C7-B058-4152-AE79-365CAEF5CDED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13A4-4CE6-4EBC-8E80-E7EA6F96781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DA40-D5E6-4DDA-8E2C-4C0CE5E9D2D2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7131-EBF6-4F38-B4B0-68431DE2ECB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7D9A-F42C-453F-BA01-AF0F72DE146E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8885-77B3-41A0-943B-F807B7825F9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3856-9B1C-49E4-8FC3-581BCB0E408A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CE6-3561-46FC-ABFB-9513D6F8605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77960" y="2599920"/>
            <a:ext cx="640080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CASE DISCUSSION 3</a:t>
            </a:r>
            <a:br>
              <a:rPr sz="3600"/>
            </a:b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B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IDA SADJA’AH SACHLI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CONSULTANT OTORHINOLARYNGOLOGIST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AMILIA HAZREENA HAMIDO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FAMILY MEDICINE SPECIALIST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MR. LEOW WOOI LEONG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PHARMACIST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320e04"/>
                </a:solidFill>
                <a:latin typeface="Gill Sans MT"/>
              </a:rPr>
              <a:t>Training Module CPG Management of Rhinosinusitis in Adolescents &amp; Adul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5E2C-FF93-4DAE-8224-429AAFCF1BD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600" y="1523880"/>
            <a:ext cx="740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Saline irrigation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asal saline irrigation facilitates mechanical removal of mucus &amp; infective agents. It also decreases crusting in the nasal cavity &amp; increases mucociliary clearance (MCC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lternative analgesic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SAIDs (e.g. diclofenac, sodium mefenamic aci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Nasal corticosteroids - No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Decongestant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e.g. Oxymetazoline nasal spr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ntihistamine - No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o role of antihistamines UNLESS there is underlying allergic rhinit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Associated symptoms suggestive of allergic rhinitis are sneezing, nasal itchiness, nasal obstruction &amp; rhinorrhoea (refer ARIA guidelin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ntibiotics - N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DBD5-F2D8-45D2-A6C0-EAA3869E54A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57360" y="131760"/>
            <a:ext cx="7738920" cy="65181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4405320" y="4649760"/>
            <a:ext cx="3868560" cy="20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Callout 2 (Accent Bar) 7"/>
          <p:cNvSpPr/>
          <p:nvPr/>
        </p:nvSpPr>
        <p:spPr>
          <a:xfrm>
            <a:off x="5330880" y="5184720"/>
            <a:ext cx="2151000" cy="870120"/>
          </a:xfr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5168880" y="5099040"/>
            <a:ext cx="17812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ECD3-7103-4BC8-827A-4E018D56EF0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2014560" y="1657440"/>
            <a:ext cx="5673600" cy="4449600"/>
            <a:chOff x="2014560" y="1657440"/>
            <a:chExt cx="5673600" cy="4449600"/>
          </a:xfrm>
        </p:grpSpPr>
        <p:sp>
          <p:nvSpPr>
            <p:cNvPr id="364" name="AutoShape 3"/>
            <p:cNvSpPr/>
            <p:nvPr/>
          </p:nvSpPr>
          <p:spPr>
            <a:xfrm>
              <a:off x="2014560" y="1657440"/>
              <a:ext cx="5662440" cy="44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5" descr=""/>
            <p:cNvPicPr/>
            <p:nvPr/>
          </p:nvPicPr>
          <p:blipFill>
            <a:blip r:embed="rId1"/>
            <a:stretch/>
          </p:blipFill>
          <p:spPr>
            <a:xfrm>
              <a:off x="2014560" y="1657440"/>
              <a:ext cx="5673600" cy="444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1219320" y="2163600"/>
            <a:ext cx="77263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DDC5-6674-4FDF-86BC-B58FB833044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E:\Slide\p15.png"/>
          <p:cNvPicPr/>
          <p:nvPr/>
        </p:nvPicPr>
        <p:blipFill>
          <a:blip r:embed="rId1"/>
          <a:stretch/>
        </p:blipFill>
        <p:spPr>
          <a:xfrm>
            <a:off x="2001960" y="1447920"/>
            <a:ext cx="6365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1" name="Content Placeholder 4" descr=""/>
          <p:cNvPicPr/>
          <p:nvPr/>
        </p:nvPicPr>
        <p:blipFill>
          <a:blip r:embed="rId1"/>
          <a:stretch/>
        </p:blipFill>
        <p:spPr>
          <a:xfrm>
            <a:off x="1743120" y="2205000"/>
            <a:ext cx="2922480" cy="220968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056F-23DD-4113-AE56-DC97B0F695A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5"/>
          <p:cNvGrpSpPr/>
          <p:nvPr/>
        </p:nvGrpSpPr>
        <p:grpSpPr>
          <a:xfrm>
            <a:off x="5562720" y="2205000"/>
            <a:ext cx="2604960" cy="2138400"/>
            <a:chOff x="5562720" y="2205000"/>
            <a:chExt cx="2604960" cy="2138400"/>
          </a:xfrm>
        </p:grpSpPr>
        <p:pic>
          <p:nvPicPr>
            <p:cNvPr id="374" name="Oval 6" descr=""/>
            <p:cNvPicPr/>
            <p:nvPr/>
          </p:nvPicPr>
          <p:blipFill>
            <a:blip r:embed="rId2"/>
            <a:stretch/>
          </p:blipFill>
          <p:spPr>
            <a:xfrm>
              <a:off x="5562720" y="2205000"/>
              <a:ext cx="260496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Oval 4"/>
            <p:cNvSpPr/>
            <p:nvPr/>
          </p:nvSpPr>
          <p:spPr>
            <a:xfrm>
              <a:off x="5994000" y="2545200"/>
              <a:ext cx="1738800" cy="14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Persistent symp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ill Sans MT"/>
                </a:rPr>
                <a:t>&gt; 4 days per week and &gt; 4 week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Box 12"/>
          <p:cNvSpPr/>
          <p:nvPr/>
        </p:nvSpPr>
        <p:spPr>
          <a:xfrm>
            <a:off x="1617120" y="4952880"/>
            <a:ext cx="289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M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daily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work &amp;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 troublesome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4648320" y="495288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MODERATE-SE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Abnormal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Impairment of daily activities, sport, lei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Problems caused at school o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Troublesome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3981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Differential diagno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0DE8-5B96-41D9-B9A2-29117826B65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304920" y="1635120"/>
            <a:ext cx="86104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biotic - </a:t>
            </a:r>
            <a:r>
              <a:rPr b="1" lang="en-MY" sz="3200" spc="-1" strike="noStrike">
                <a:solidFill>
                  <a:srgbClr val="000000"/>
                </a:solidFill>
                <a:latin typeface="Gill Sans MT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he history provided suggests common cold which is viral in natur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he colour of the nasal discharge does not correlate with origin of infection, whether viral or bacterial in natur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biotic has no role in the management of a common co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ommon cold is self-limit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5FF2-C224-46A9-BD9E-4AEE992DF6D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ase 1 – 2</a:t>
            </a:r>
            <a:r>
              <a:rPr b="1" lang="en-MY" sz="3900" spc="-1" strike="noStrike" baseline="30000">
                <a:solidFill>
                  <a:srgbClr val="572314"/>
                </a:solidFill>
                <a:latin typeface="Gill Sans MT"/>
              </a:rPr>
              <a:t>nd</a:t>
            </a: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 Visit (Primary Care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lia comes back a week later with worsening symptom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Mucopurulent nasal dischar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Fever,  temperature=38</a:t>
            </a:r>
            <a:r>
              <a:rPr b="0" lang="en-MY" sz="2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In addition to the headache, she now develops right-sided facial pain which is tender on touc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ain has increased in severity affecting her sleep &amp; stud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VAS score for symptoms of RS is now  7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ff0000"/>
                </a:solidFill>
                <a:latin typeface="Gill Sans MT"/>
              </a:rPr>
              <a:t>Q3. What is the diagnosis now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7421-A287-4C4C-A126-33ADBC18537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rhinosinusitis, probably with superimposed bacterial infec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4B2F-2B7E-43FE-A1DD-35F6B27712D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4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How would you manage her now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aline irrig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alges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corticostero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Decongesta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histam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4D58-E83C-4E2A-8AC4-EB213A1A3BC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6238800" y="2955960"/>
            <a:ext cx="24814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151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ase 1 - 1</a:t>
            </a:r>
            <a:r>
              <a:rPr b="1" lang="en-MY" sz="3900" spc="-1" strike="noStrike" baseline="30000">
                <a:solidFill>
                  <a:srgbClr val="572314"/>
                </a:solidFill>
                <a:latin typeface="Gill Sans MT"/>
              </a:rPr>
              <a:t>st</a:t>
            </a: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 Visit (Primary Care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47560" y="1401480"/>
            <a:ext cx="739116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Cik Alia, a 23-year-old, final-year university stu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3 days h/o purulent nasal discharge, blocked nose, headache &amp; lethar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She has been taking regular paracetamol for her headache, &amp; not on any other regular medici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She is a non-smoker with no other significant medical history or drug allergi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Her exams start in 2 weeks’ time &amp; she feels a course of antibiotics will help to recover quick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lia appears tired &amp; shivery, &amp; is constantly blowing her nose. O/E, she has a temperature of 37.8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Her Visual Analogue Scale for symptoms of RS is 3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Saline irrigation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algesic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Nasal corticosteroids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Intranasal corticosteroids (e.g. Beclomethasone, Budesonide, Fluticasone propionate) significantly improves symptoms of A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onsider prescribing to patients for a period of 2 - 3 week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Decongestant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histamine - No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B83D-924E-45D7-8E33-A89328C7A54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biotics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an consider to prescribe antibiot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referred antibiotics = Amoxicillin 500 mg given TDS or Amoxicillin/Clavunalate 625 mg TDS for a period of 5 - 7 da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May prescribe other classes of antibiotics if patient has history of penicillin allergy - no significant difference in efficacy between different antibiotics in A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Cefuroxime, Doxycycl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recaution: antibiotic resis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0ACE-75D1-4EC3-BF23-1C1CD16A1EF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029C-8DEA-4D24-B237-B9AB5DA0AA0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652760" y="1353960"/>
            <a:ext cx="6653160" cy="5204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1631880" y="3051000"/>
            <a:ext cx="3137040" cy="3654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4800600" y="4444920"/>
            <a:ext cx="3505320" cy="210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Case 1 – 3</a:t>
            </a:r>
            <a:r>
              <a:rPr b="1" lang="en-MY" sz="4300" spc="-1" strike="noStrike" baseline="30000">
                <a:solidFill>
                  <a:srgbClr val="572314"/>
                </a:solidFill>
                <a:latin typeface="Gill Sans MT"/>
              </a:rPr>
              <a:t>rd</a:t>
            </a: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 Vis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Upon completion of antibiotics during her last visit, her facial pain &amp; headache improve significantly, but her nasal symptom persis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3 months later, Alia comes back with similar complaint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termittent nasal blockage &amp; nasal dischar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ltered state of sme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Q5. What is the diagnosis now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FEB8-3CCC-4128-899D-9D43A19AB35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8037360" y="3130560"/>
            <a:ext cx="10051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hronic rhinosinusit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CD68-A274-4EC0-A723-D576845659A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553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Outline your manage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3CFF-CF29-49BA-B180-F86A2F1094F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aline nasal irrig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effective as an adjunct treatment for managing  symptoms of C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tranasal corticosteroi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hould be given for 16 - 52 wee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algesic (when necessary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Refer to ORL for further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0066-F5CC-41D1-9525-A469798218F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412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9A14-E478-4E3F-A181-7DA47D349FF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06720" y="1571760"/>
            <a:ext cx="58179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412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6A78-E2CE-49BC-8EB6-627B0F22FF2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600200" y="1619280"/>
            <a:ext cx="69231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53E1-94AD-4781-B117-09925E4A5A1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1676520" y="866880"/>
            <a:ext cx="67723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553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What is the diagnosi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7A41-EBAB-4296-BB3F-418AE233EA5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6238800" y="3178080"/>
            <a:ext cx="2481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Take Home Messa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vs chronic rhinosinusitis should be differenti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saline irrigation is a useful adjunct in managing both acute &amp; chronic rhinosinusit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Judicious use of antibiotic is important to prevent antibiotic resista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0FC3-66D0-423B-8526-8476841B6B0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EC4B-883E-4EDE-A655-235E10DEB64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371240" y="1599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diagnosis is likely to be either common cold or mild acute rhinosinusitis (ARS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Both are likely to be viral in nature &amp; self-limit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8391-BB2D-4649-8689-0C0E9DE2EF2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7044-7408-4998-BC0C-7DF901C2833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1273320" y="138096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1ABA-1A34-4DDB-823C-DC1B54226D9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676520" y="1552680"/>
            <a:ext cx="685800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Visual Analogue Score/Scale (VAS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4C3A-49A6-49F2-BE20-7DFD4412A30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1752480" y="1690560"/>
            <a:ext cx="66358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ff0000"/>
                </a:solidFill>
                <a:latin typeface="Gill Sans MT"/>
              </a:rPr>
              <a:t>Q2. What is the management/ treatment option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4EFB-C6A5-4549-8E33-E66A34780DD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5589720" y="2590920"/>
            <a:ext cx="3146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ff0000"/>
                </a:solidFill>
                <a:latin typeface="Gill Sans MT"/>
              </a:rPr>
              <a:t>Q2. What is the management/ treatment option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C964-CF02-4A7B-897E-F91615C68CA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589720" y="2590920"/>
            <a:ext cx="3146400" cy="2971800"/>
          </a:xfrm>
          <a:prstGeom prst="rect">
            <a:avLst/>
          </a:prstGeom>
          <a:ln w="0">
            <a:noFill/>
          </a:ln>
        </p:spPr>
      </p:pic>
      <p:sp>
        <p:nvSpPr>
          <p:cNvPr id="353" name="Content Placeholder 2"/>
          <p:cNvSpPr/>
          <p:nvPr/>
        </p:nvSpPr>
        <p:spPr>
          <a:xfrm>
            <a:off x="1434960" y="1828800"/>
            <a:ext cx="417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aline irr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alge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cortico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Deconge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his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22:12:47Z</dcterms:created>
  <dc:creator>DrAmin</dc:creator>
  <dc:description/>
  <dc:language>en-US</dc:language>
  <cp:lastModifiedBy>DrAmin</cp:lastModifiedBy>
  <dcterms:modified xsi:type="dcterms:W3CDTF">2017-10-09T00:08:42Z</dcterms:modified>
  <cp:revision>90</cp:revision>
  <dc:subject/>
  <dc:title>PowerPoint Presentation</dc:title>
</cp:coreProperties>
</file>